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4E6B-5C52-4731-A987-56AE51432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F22-4C67-424C-B626-60E3BB66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443D-7F5D-4D46-83FC-FBF54E7F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2775-15C9-41AC-9E80-39BC02F79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FC567-65D8-4A4A-80CF-FB7FC6489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63BF-3B6A-422B-90F1-5ADE7DBA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6237-6948-43B3-94DD-DC7EB4C40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9218-AE5C-4483-ABF6-5626715C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D2F75-570E-4D4A-B4DF-43DF8B34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43A-D54B-44FD-91A7-9B0FA7BB9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C0E1-EC19-44A8-B0C2-DE8D17D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B93C-2284-4B92-A45F-ED0EB464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34538-5571-452C-A95D-593DA881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1AAA-3106-4AB0-B801-7EC369D1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9CE-0394-4661-9ECD-A3D109016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F86D8-1DE7-40A5-A302-FEE7B054E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148FD-9AC8-43E9-BD48-5C75B1811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94C8-08FD-45C5-865E-5E9B8FAEC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791C-A9D5-44DC-9DE9-FCD60A2C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9915-8D60-4D0E-923D-E79562B18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0FE2-6E36-46EC-AF7D-AF6A06668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0E18-3D10-4176-A72A-AD6717252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50FE-B65F-487D-99C8-39664AE3E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5A3E-3D00-4DCB-AEE4-87F89799B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DD53-2260-4E43-A8A7-68753CFAE6B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84FBC-D4EF-4869-B062-5822EC615C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160020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799000" y="457200"/>
            <a:ext cx="657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bcbcb"/>
                </a:solidFill>
                <a:latin typeface="Impact"/>
              </a:rPr>
              <a:t>Интернет Агентство </a:t>
            </a:r>
            <a:r>
              <a:rPr b="1" lang="en-US" sz="3200" spc="-1" strike="noStrike">
                <a:solidFill>
                  <a:srgbClr val="cbcbcb"/>
                </a:solidFill>
                <a:latin typeface="Impact"/>
              </a:rPr>
              <a:t>“Molino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572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Система электронной торговли</a:t>
            </a:r>
            <a:br>
              <a:rPr sz="4400"/>
            </a:b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«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CybTrade Engine»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93" name="Okshop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1981080" cy="206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4" name="otdel" descr=""/>
          <p:cNvPicPr/>
          <p:nvPr/>
        </p:nvPicPr>
        <p:blipFill>
          <a:blip r:embed="rId3"/>
          <a:stretch/>
        </p:blipFill>
        <p:spPr>
          <a:xfrm>
            <a:off x="2590920" y="4191120"/>
            <a:ext cx="1981080" cy="206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5" name="otdel_detail" descr=""/>
          <p:cNvPicPr/>
          <p:nvPr/>
        </p:nvPicPr>
        <p:blipFill>
          <a:blip r:embed="rId4"/>
          <a:stretch/>
        </p:blipFill>
        <p:spPr>
          <a:xfrm>
            <a:off x="4648320" y="4191120"/>
            <a:ext cx="1981080" cy="2063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6" name="admin_tree" descr=""/>
          <p:cNvPicPr/>
          <p:nvPr/>
        </p:nvPicPr>
        <p:blipFill>
          <a:blip r:embed="rId5"/>
          <a:stretch/>
        </p:blipFill>
        <p:spPr>
          <a:xfrm>
            <a:off x="6705720" y="4191120"/>
            <a:ext cx="1981080" cy="205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Торговая площадка, витр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Администратор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Корзина покупа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: Оформления заказ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49" name=""/>
          <p:cNvSpPr txBox="1"/>
          <p:nvPr/>
        </p:nvSpPr>
        <p:spPr>
          <a:xfrm>
            <a:off x="5029200" y="38088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Торговая площадка, витрин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ое подключение дизай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ограниченная вложен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Быстрая работа и низкая нагрузка на серве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55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502920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7" name="Okshop" descr=""/>
          <p:cNvPicPr/>
          <p:nvPr/>
        </p:nvPicPr>
        <p:blipFill>
          <a:blip r:embed="rId1"/>
          <a:stretch/>
        </p:blipFill>
        <p:spPr>
          <a:xfrm>
            <a:off x="304920" y="2057400"/>
            <a:ext cx="4190760" cy="3906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58" name="otdel" descr=""/>
          <p:cNvPicPr/>
          <p:nvPr/>
        </p:nvPicPr>
        <p:blipFill>
          <a:blip r:embed="rId2"/>
          <a:stretch/>
        </p:blipFill>
        <p:spPr>
          <a:xfrm>
            <a:off x="4724280" y="2057400"/>
            <a:ext cx="4191120" cy="3886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59" name=""/>
          <p:cNvSpPr/>
          <p:nvPr/>
        </p:nvSpPr>
        <p:spPr>
          <a:xfrm>
            <a:off x="1221480" y="609588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Первая страниц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339600" y="6095880"/>
            <a:ext cx="93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Lucida Sans Unicode"/>
              </a:rPr>
              <a:t>Отде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952880" y="304920"/>
            <a:ext cx="38293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2" name="otdel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229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502920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4" name="otdel_detail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2084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6" name="pokupka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5639040" cy="5240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Администратор систем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дминистрирование через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ибкая настройка системы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добный интерфейс с возможностью настрой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72" name=""/>
          <p:cNvSpPr txBox="1"/>
          <p:nvPr/>
        </p:nvSpPr>
        <p:spPr>
          <a:xfrm>
            <a:off x="4952880" y="304920"/>
            <a:ext cx="38293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5029200" y="38088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4" name="admin%20copy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782040" cy="53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510552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6" name="struktua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81680" cy="53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7" name=""/>
          <p:cNvSpPr/>
          <p:nvPr/>
        </p:nvSpPr>
        <p:spPr>
          <a:xfrm>
            <a:off x="1400040" y="2228760"/>
            <a:ext cx="1295640" cy="22860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79" name="admin_tree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81680" cy="5333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ли проек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стая в настройке систем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Максимальная функциональн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Быстрая работа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добное администрировани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Гибкость и адаптивность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00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658332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vvod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781680" cy="5314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орзина покупателя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ребует перезагрузки страниц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страиваемый внешний ви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теряется в случае обрыва связ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8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9" name="basket" descr=""/>
          <p:cNvPicPr/>
          <p:nvPr/>
        </p:nvPicPr>
        <p:blipFill>
          <a:blip r:embed="rId1"/>
          <a:stretch/>
        </p:blipFill>
        <p:spPr>
          <a:xfrm>
            <a:off x="1828800" y="1219320"/>
            <a:ext cx="5538960" cy="52498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1" name="basket1" descr=""/>
          <p:cNvPicPr/>
          <p:nvPr/>
        </p:nvPicPr>
        <p:blipFill>
          <a:blip r:embed="rId1"/>
          <a:stretch/>
        </p:blipFill>
        <p:spPr>
          <a:xfrm>
            <a:off x="1752480" y="1036800"/>
            <a:ext cx="6019920" cy="550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Основные модул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оду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Оформления заказ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егко настраивается под потребности конкретного магази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ключаются дополнительные модул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доставка, оплата, регистрация, скид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9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9" name="dostavka" descr=""/>
          <p:cNvPicPr/>
          <p:nvPr/>
        </p:nvPicPr>
        <p:blipFill>
          <a:blip r:embed="rId1"/>
          <a:stretch/>
        </p:blipFill>
        <p:spPr>
          <a:xfrm>
            <a:off x="1523880" y="1192320"/>
            <a:ext cx="5562720" cy="5313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1" name="oplata" descr=""/>
          <p:cNvPicPr/>
          <p:nvPr/>
        </p:nvPicPr>
        <p:blipFill>
          <a:blip r:embed="rId1"/>
          <a:stretch/>
        </p:blipFill>
        <p:spPr>
          <a:xfrm>
            <a:off x="1447920" y="1117440"/>
            <a:ext cx="5638680" cy="53787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03" name="end" descr=""/>
          <p:cNvPicPr/>
          <p:nvPr/>
        </p:nvPicPr>
        <p:blipFill>
          <a:blip r:embed="rId1"/>
          <a:stretch/>
        </p:blipFill>
        <p:spPr>
          <a:xfrm>
            <a:off x="1447920" y="1069920"/>
            <a:ext cx="5715000" cy="5416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егистрации и сбор информации о пользователях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Администратор внутренн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реклам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Рассчет стоимости достав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оисковая систе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0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ем безналичных платеже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нтеграция с бухгалтерскими систем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2B - распределение скид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Накопительные и персональные ски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15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автоматизированного управления торговыми системами - предназначена для создания магазинов, каталогов товаров, аукционов и прочих торговых площадок в сети интернет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0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статистик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базой данных пользовател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заказам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чтовая систем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2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ополнительные модули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артнерская програм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нкетирование, голосования и рейтин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Форумы обсуждения товаров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Черный список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2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Технические требования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X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л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indows 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претатор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чески любая СУБД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о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D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ддерживающий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S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Любая аппаратная платформ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33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Аппаратное обеспечение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корость генерации кода магазина – 1000 товар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3/800 SCSI RAID 512Mb RA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с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2/350 Celeron, EIDE, 64Mb RA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с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P1/100 IDE, 16Mb RAM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0 сек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3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ВАШИ ВОПРОСЫ </a:t>
            </a: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44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тернет агентство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LIN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нстантин Жебене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Исполнительный директо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l: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75 1705, 275 170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-mail: Kz@molinos.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4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0" name=""/>
          <p:cNvSpPr/>
          <p:nvPr/>
        </p:nvSpPr>
        <p:spPr>
          <a:xfrm>
            <a:off x="303480" y="770040"/>
            <a:ext cx="61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Контактна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информация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СПАСИБО ЗА ВНИМАНИЕ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55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ИТ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– ВИТРИН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2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еся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обра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стинг – ВИТ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 в месяц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алляция – ВИТРИН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6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МАГА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ддержка – МАГАЗИ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 месяц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4 обращени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Хостинг – МАГА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 в месяц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сталляция – МАГА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67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егистрации и сбор информации о пользователях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Администратор внутрен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реклам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Рассчет стоимости достав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исковая систем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$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73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рверное приложение, ориентированное на работу пользователей и администратора торговой системы через HTTP протоко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13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рием безналичных платеже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грация с бухгалтерскими систем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2B - распределение скид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копительные и персональные скидк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79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истема статистик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контроля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базой данных пользователе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правление заказам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чтовая систе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85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ЦЕН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ЦЕНЫ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артнерская программ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нкетирование, голосования и рейтинги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Форумы обсуждения товаров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Черный список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 $ 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291" name=""/>
          <p:cNvSpPr txBox="1"/>
          <p:nvPr/>
        </p:nvSpPr>
        <p:spPr>
          <a:xfrm>
            <a:off x="510552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истема позволяет очень быстро (от 30 минут) создавать полнофункциональные интернет магазины любой сложности, с любым количеством товаров, отделов и любым уровнем вложенност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19" name=""/>
          <p:cNvSpPr txBox="1"/>
          <p:nvPr/>
        </p:nvSpPr>
        <p:spPr>
          <a:xfrm>
            <a:off x="5029200" y="304920"/>
            <a:ext cx="382896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добные средства администрирования позволяют даже не подготовленному пользователю вести товарную базу и заниматься коммерческой эксплуатацией торговой площад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25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2133720"/>
            <a:ext cx="81532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мощью простого макро-языка к магазину в считанные минуты подключается практически любой дизай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31" name=""/>
          <p:cNvSpPr txBox="1"/>
          <p:nvPr/>
        </p:nvSpPr>
        <p:spPr>
          <a:xfrm>
            <a:off x="4952880" y="304920"/>
            <a:ext cx="382932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Описание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меняет технологию пре генерации HTML кода, что позволяет значительно снизить нагрузку на сервер и позволяет использовать специализированные тэги HTML для оптимизации поиска с помощью поисковых сист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37" name=""/>
          <p:cNvSpPr txBox="1"/>
          <p:nvPr/>
        </p:nvSpPr>
        <p:spPr>
          <a:xfrm>
            <a:off x="510552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bcbcb"/>
                </a:solidFill>
                <a:latin typeface="Times New Roman"/>
              </a:rPr>
              <a:t>Функциональност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2133720"/>
            <a:ext cx="84582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ybTrade Engin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лизован набор различных функций и модулей необходимых для работы системы электронной коммерции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4120"/>
            <a:ext cx="3200400" cy="3045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6080" rIns="4608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полнительно..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56386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еализованные проекты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ww.okshop.ru, pokupka.spb.r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324480" y="5715000"/>
            <a:ext cx="2571840" cy="92376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sp>
        <p:nvSpPr>
          <p:cNvPr id="143" name=""/>
          <p:cNvSpPr txBox="1"/>
          <p:nvPr/>
        </p:nvSpPr>
        <p:spPr>
          <a:xfrm>
            <a:off x="5029200" y="228600"/>
            <a:ext cx="38289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cap="sq" w="12600">
                  <a:solidFill>
                    <a:srgbClr val="000099"/>
                  </a:solidFill>
                  <a:miter/>
                </a:ln>
                <a:solidFill>
                  <a:srgbClr val="ff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«CybTrade Engine»</a:t>
            </a:r>
            <a:endParaRPr b="0" lang="en-US" sz="4000" spc="1" strike="noStrike">
              <a:ln cap="sq" w="12600">
                <a:solidFill>
                  <a:srgbClr val="000099"/>
                </a:solidFill>
                <a:miter/>
              </a:ln>
              <a:solidFill>
                <a:srgbClr val="ff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0:00:39Z</dcterms:created>
  <dc:creator>Константин Жебенев</dc:creator>
  <dc:description/>
  <dc:language>en-US</dc:language>
  <cp:lastModifiedBy>Константин Жебенев</cp:lastModifiedBy>
  <dcterms:modified xsi:type="dcterms:W3CDTF">2001-04-12T16:33:42Z</dcterms:modified>
  <cp:revision>64</cp:revision>
  <dc:subject/>
  <dc:title>Обзор проекта</dc:title>
</cp:coreProperties>
</file>